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925-5459-4F90-92FF-23BB832D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44E-4870-4278-902D-781B22B1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10A-6290-4373-BF33-48F31E9C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7EA-E93F-42E7-89CC-52ECD5AC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B86-9C3E-4989-ACD8-C6362953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610-689B-46A8-8630-5A5BF7C5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34E-12CA-4214-96D2-8CA4277B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AD29-9AC1-43EC-8F9F-8E81F679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0B1-8E0A-4874-9873-FE28DAA6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B9F-8614-484D-A31D-C5FCBEE8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E096-09A0-44F2-94AC-38AE1E9B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497-1BA1-4A36-918D-3F281776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A23E-9BF6-40D8-814F-3654F9052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talentedapps.files.wordpress.com/2009/03/homer-simpson-wallpaper-brain-10242.jpg&amp;imgrefurl=http://talentedapps.wordpress.com/2009/03/&amp;usg=__FEU1J7mVb9Rx6xvAaaZpADKfI6M=&amp;h=768&amp;w=1024&amp;sz=50&amp;hl=en&amp;start=7&amp;itbs=1&amp;tbnid=PkiyfXuSo4dVIM:&amp;tbnh=113&amp;tbnw=150&amp;prev=/images%3Fq%3Dbrain%26hl%3Den%26safe%3Dactive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429000"/>
            <a:ext cx="4267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ajor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brain (Mesencephal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ulla Oblong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42894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es visual and audito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untary motor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2838600"/>
            <a:ext cx="53625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s the cerebellum to the brain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nuclei involved in somatic and visceral moto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81480" y="312408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ulla Oblong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407664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Processing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s the postural muscles of the body to maintain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fine-tuning movements controlled at consciou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nscious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477120" y="4616280"/>
            <a:ext cx="266688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um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i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Sul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s the frontal from the parietal l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480060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in Lobes and Associ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. 262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ipital c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(right hemisphere controls left f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ca’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hemisphere, frontal lo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an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lexia: a disorder affecting the comprehension and use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nesia: loss of memory from disease or tra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If I had a stroke and could not move my right arm and had slurred speech, what region of the brain received the damag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the Brain and the Spinal 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314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nsation of the internal and ex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voluntary and involuntary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/ controlling peripheral structures a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senso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y of the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Major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eb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nceph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ulla oblong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al Co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 matter on the surface of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on the surfac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eb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41907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d into right and left hemisph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by the longitudinal fi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cious thoughts, sensations, intellectual functions, memory storage and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vements (skele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nceph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s to the Cerebrum to the brain 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s the Thala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lamus: relays sensor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alamus: emotions, hormone production, hunger, thirst, and temp.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eal Gland: endocrin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45336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6:46:28Z</dcterms:created>
  <dc:creator>jeff bonomo</dc:creator>
  <dc:description/>
  <dc:language>en-US</dc:language>
  <cp:lastModifiedBy>jeff bonomo</cp:lastModifiedBy>
  <dcterms:modified xsi:type="dcterms:W3CDTF">2010-10-20T12:25:29Z</dcterms:modified>
  <cp:revision>5</cp:revision>
  <dc:subject/>
  <dc:title>The Brain</dc:title>
</cp:coreProperties>
</file>